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796088" cy="10075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796800" cy="10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0"/>
          </p:nvPr>
        </p:nvSpPr>
        <p:spPr>
          <a:xfrm>
            <a:off x="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1"/>
          </p:nvPr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BC4536B-BD2E-4451-841B-BD1D28FC8C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261F3DE-598F-492F-9375-C2607E7E4D4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1047B14-5D7D-4736-B10C-887D5C55E53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FD28A8B-2469-4CD9-B8EE-2243A4EA71A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EE44C11-A734-4C98-9F3A-E6876824AEE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8E0DFDC-1F13-4398-B128-EE7366D8D87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B118573-BA56-455F-9265-C73C40B78F5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30EE9F4-C7DF-448C-A70C-89D0F0709C9F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CDCD1E0-BC93-4E2E-8795-CC1D61D83F9B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8210DD1-F015-4C4D-8E74-C71442FAA14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42939B5-15EF-409E-8249-F500290160C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E5DDED8-480D-49EA-9B92-76F32AA3E20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E1AB9C1-56DB-421B-BC4B-C99910292CD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8EC9C64-2681-4CE1-A82C-579C14310BB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D821089-AB6C-4D9D-93C8-B5C75301DEE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0675A72-79B6-4A61-8082-8A787933527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F468398-DC7A-41E6-B76C-EC62EC9BF1F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B8D25AA-9656-451E-B366-8DC05137A55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C9D9351-20B0-4B8F-A420-44622A28B1C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F6C02D6-81D9-474C-81CB-37F87AF5163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31ED369-73B4-4D27-AAA1-FB5DBD8C206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2431CA4-3B99-49CE-BFB1-4BF9B26071E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7D6F8F6-F748-4173-8EF3-29DEAD548C2F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E85B365-A782-451B-8D0F-4CECD6DDEF5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951AC73-D3AF-4B65-917F-EB546AC4304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4BFED2B-BF51-48A2-97F3-7C8848314A8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C57C07F-D2F4-45CD-B32F-B05CB4D6780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K 6.265 str. 1 d. Jeigu asmuo, kuris nėra darbuotojas, vykdydamas kito asmens, kuris nėra darbdavys, duotą nurodymą, padaro žalos, tai abu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e asmenys atsako solidari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nimas -&gt; CK 6.718 str. 3 d. Paslaugų teikėjas privalo teikti paslaugas pagal sutarties sąlygas ir kliento nurodymus. Jei kliento nurodymai 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tarauja sutarties įstatymams, nusistovėjusioms profesinės veiklos taisyklėms, standartams, profesinės veiklos etikai ar sutarties sąlygoms, paslaugų teikėjas turi teisę atsisakyti vykdyti tokius nurodymus ir sutartį nutrauk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ektroninės komercijos direktyva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nustato atsakomybės i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mtis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mere conduit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tiesiog elgesio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kai paslaugų teikėjas nežino, kokia informacija siunčiama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ach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laikino saugojimo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informacijos saugojimas) atvejais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atveju būtinos sąlygos yra nežinojimas, kad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 informacija ką nors pažeidžia, bei informacijos pa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alinimas nedelsiant gavus tokią informacij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6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7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ED56578-DE86-423B-A9A8-12628288DFE1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6BC378F-AC56-4324-8D80-333544335F9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98F763A-32D7-44C1-8BDA-27C3EE7009C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0A54373-4DDD-4FFE-AA5E-4B09ABDC8DBF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DFF35FD-010C-48AD-B009-3F1AEC47B5E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BB0C293-3364-4DD6-8A07-18A7B09025D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5991EC3-8C01-4D9E-A223-293F97EDFFE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6766FD5-E97D-40F3-A8E9-E5A28DD6BDB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FBFA436-C6EF-40F6-B194-E6FB6C178BF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A5B9683-A1CC-4B10-B8A6-82C533B956C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863602F-2C96-46F1-A76A-942DA890504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240-7330-494C-A78C-AA2BF682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AB2-CBEE-4D59-A806-FA9DCFDF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981-8601-4B95-B9FA-BCE720DC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C00-47B5-41B1-B981-7DE830C4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1ADA-73E5-4A4D-AB56-7523D4BB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AA9F-EC48-4826-9ACE-8DFAA4B7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3A66-64E0-4627-A695-7CF22CE0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ECF3-7249-43F5-A2DA-C038D113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5D4C-C611-44D3-9DE3-0CB7FD12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3650-DEC0-40FA-9B65-B0052D21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B917-A1F9-45D4-9ECA-F30842A7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0EB-B702-41A6-86F9-6FC74730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7B3B-27B1-4FB0-9F0E-3678DA4E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2B60-DC90-4290-BECB-3F8159ED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777F-9F2B-458A-AA0A-D04E205F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780E-23E2-4DD4-84AC-F15A9D7D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6E6A-6BB9-463B-B1BA-F87F4B70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5EE00A-2F62-41BE-AF93-83A94FE927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8540FA-BF69-469A-882E-85297A07BA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A7406B-2329-442C-A19B-0CE57BCBAA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4FCE1-B32F-4DF4-A8E1-D2BDEEDA7C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C285B-C011-4465-91E7-5BFF880DD7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90B-7557-4272-9F19-2C254256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45FDEF-CD45-4ABA-A358-A3D9613DB4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4B5E1C-1753-4776-BE6E-63BA2DB709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3E836F-3D50-49FB-9F64-05993F2B92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CDF7B6-6959-4456-8BEA-73C561B31B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84A72-4570-4974-8A51-B6BE1EF52E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546133-106C-43BB-BFA7-C27069E268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D1C52B-F8A4-4175-96A5-B386AB97A9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D9B36-A594-4876-9683-AAAFCB126C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DDA4A-4AD9-4C12-B349-ECA4BDA7C8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3F32F-F111-4465-903C-D70E91787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55E-5ECD-4AC0-8248-7C152987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66F7E-AFFE-404A-A3A2-633D37492B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1B894-A71C-40CB-932F-8F57D463DD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D3ECB-954E-48ED-AD4F-705736A807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CD35E-5036-42C4-84EB-F66EE93D0A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A8A37-CDBC-461E-8507-C340F6CC7D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29808-1E4B-4DF3-9107-DD24CC8DE8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FC59A-A15D-4FC7-9244-AC550F02D4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4148C-1286-44AF-8D75-86E96FAE19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4F47B-B500-424D-9C8A-0D9270156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E49-9A37-4E7E-81BC-988DE7FC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D84-2D22-4C60-9BDF-69525D7E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CF5-4917-4E51-8903-BD153A73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75A-09BE-48AE-BEFD-5E8862F3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8A54-AE37-453F-B404-8D456D1F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-01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3581280"/>
            <a:ext cx="58752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4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45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8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ės komercijos teisinio reguliavimo pagrin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Funkcinis ekvivalentišk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alios erdvės institutų perkėlimo į elektroninę erdvę (pritaikymo šiai erdvei užtikrinimas) pagal šių institutų funkcij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dokument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udarymas galimybių, kad būtų įskaitomas; liktų nepakeistas bėgant laikui; galima būtų padaryti dokumento kopiją taip, kad kiekviena iš šalių turėtų tuos pačius duomenis; galima būtų patvirtinti duomenis parašu; pateikti formą, kuri būtų priimtina valstybės institucijoms, įskaitant teism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paraš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uoti asmenį; užtikrinti, kad pasirašymo veiksme asmuo dalyvavo asmeniškai; susieti asmenį su konkrečiu dokumentu (patvirtinimas, kad autorius patvirtino dokumento turinį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utarčių laisv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idžia sutarčių šalims (ypač verslas - verslui komercijoje) laisvai nusistatyti tarpusavio santykių principus ir formas ir įpareigoja valstybę pripažinti tokias sutartis (taip pat ir apsaugant iš jų kylančias teis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o parašo įstatymo 8 str. 3 d.: elektroninis parašas visais atvejais turi šio straipsnio 1 dalyje įtvirtintą teisinę galią (t.y., tokią pat teisinę galią kaip ir parašas rašytiniuose dokumentuose ir yra leistinas kaip įrodinėjimo priemonė teisme), jeigu parašų naudotojai tarpusavyje dėl to susitar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ska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iek tai įmanoma valstybė turi ne pati kištis, o skatinti, kad normas bendru sutarimu kurtų elektroninio verslo dalyviai ir juos atstovaujančios organizacijos (panašu į darbo santykių reguliavimą, kai darbuotojai su darbdaviu pasirašo kolektyvinę sutartį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smens duomenų teisinė apsauga ir vartotoj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pareigoja valstybę ir kitus subjektus saugoti fizinių asmenų privatumą bei užtikrinti sąžiningą elgesį su jais prekybiniuose santykiuose (taip pat ir elektroniniame vers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o principo nuoseklus taikymas ugdo vartotojų pasitikėjimą elektronine komercija ir skatina vartojim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ugumo užtikr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mpa aktualesnis, kai elektroninė komercija atsiveria (naudojama ne uždaroje grupėje) ir naudoja globalius tink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NISA – Europos tinklų ir informacijos apsaugos agentūra (Heraklionas, Kreta, Graikij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is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atitikti tarptautinius teisės aktus, ir užtikrinti, kad teisiniai santykiai, atsiradę pagal vienos valstybės įstatymus, bus lygiaverčiai pripažįstami kitose valstybė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kišimasis (proporcinguma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būti minimalus būtinas pasiekti konkretų tikslą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utorių teisių ir gretutinių teisi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jant informacines technologijas šias teises tampa vis lengviau pažeisti, todėl turi būti skiriamas specialus dėmesys autorių teisėms ir gretutinėms teisė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umas, prognozuojamumas, teisinis tikrumas ir teisėti lūkesčia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statymų leidyba ir teisės aktai turi užtikrinti, kad teisinis reguliavimas būtų aiškus ir nuspėjam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s principas apima ir 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retro non agit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(lot. Įstatymas negalioja atgal) taisykl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ės sutart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uropos Sąjungos, Europos Taryb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valomi viršnacionaliniai teisės ak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Reglamentai, direktyvos, sprendima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statymai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rmiausia – Civilinis kodeks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oįstatyminiai teisės aktai (</a:t>
            </a:r>
            <a:r>
              <a:rPr b="0" lang="lt-LT" sz="1600" spc="-1" strike="noStrike">
                <a:solidFill>
                  <a:srgbClr val="003366"/>
                </a:solidFill>
                <a:latin typeface="Arial"/>
              </a:rPr>
              <a:t>Vyriausybės nutarimai,  ministrų įsakymai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pročiai, doktrina ir tarptautinių organizacijų dokumen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urin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a teisės sistem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eguliavimo dalykas ir meto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ltini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. Beliackas v. UAB “Sabina” (elektroninių įrodymų pripažin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Lietuvos telekomo verslo sprendimai” ir AB “Lietuvos telekomas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D.B.S. Pte. Ltd.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ės organizacij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Bendrija (Europos Sąjung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iršnacionalinis pobūd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konominės plėtros ir bendradarbiavimo organizacija (OEC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o prekybos organizacija (WT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ungtinės tautos – Tarptautinės prekybos teisės komisija (UNCITR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ntelektinės nuosavybės organizacija (WIP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iai prekybos rūmai (IC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uropos Bendrija (Europos Sąjung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9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0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komercijos 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lektin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ės nuosavybė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teisi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ivatinės teisės harmon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konominės plėtros ir bendradarbiavimo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Centrinis tarptautinis išsivysčiusių valstybių forumas, kuriam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pibendrinama įvairių valstybių prakt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eškoma unifikuotų e-komercijos sureguliavimo modeli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BPO rekomenda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eisiškai neprivalo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įtvirtina stiprius valstybių-narių moralinius/politinius įsipareigojimu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ekretoriato atlikta analizė, surinkti duomenys valstybėms-narėms padeda efektyviau atlikti koordinuotą darb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prekybo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saulinės prekybos liberal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TS – bendrasis susitarimas dėl prekybos paslaugom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IPS – susitarimas dėl intelektinės nuosavybės aspektų, susijusių su preky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Jungtinių tautų tarptautinės prekybos teisės komis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ekybos teisės harmonizavimas ir kod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6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ės komercijos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1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ių parašų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intelektinės nuosavybė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ų sutarčių intelektinės nuosavybės srityje rengimas ir administr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utorių teisi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tlikimų ir fonogram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omenų vardų, kaip galimai naujų intelektinės nuosavybės objektų, statuso tyrimai ir susijusių ginčų sprend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olektyvinis reguliavimas, siekiant suderinti bendrus interesus be valstybės pagalb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jusi su elektroninės komercijos reguliavimo evoliucija 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electronic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val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reitas, pigus ir efektyvu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žeidimo pašal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mybė reaguoti į nepriimtiną, nors teisėtą elges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Masinis komercinis paštas iki 2001 01 01 Lietuvoje nebuvo draudžiamas teisės aktais, bet buvo reguliuojamas bendrų savireguliacijos priemoni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trūk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ėra tiesiogiai priverstinai įvykdom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Gali būti taikomos sutartinės sankcij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miamasi savireguliacija kaip paproči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 tapti didesnę įtaką turinčių interneto subjektų (pvz., interneto paslaugų teikėjų) piktnaudžiavi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Visada išlieka valstybės nustatytos taisyklės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konkurencijos teisė, vartotojų apsauga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ieta teisės sistemo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ės komercijos teisė – pirmiausia komercinė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endrosios komercinės teisės institutai (šalys, sandor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odifikuoti institutai (elektroninis parašas, elektroninė sutart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ordinatė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ošakis – komercinė; šaka – civilinė; privatinės teisės dal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x mercatoria – viduramžiuose susiformavusi paprotinė komercinė (pirklių)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alogiška elektroninės komercijos teisės pradž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uo pat pradžių buvo nereguliuojamas valstybės, o dauguma elgesio taisyklių susiklostė kaip savireguliacijos sukurti paproči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ėra ribojamas valstybių sienų, todėl sunku taikyti konkrečios valstybės prievartos priem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resursai dažniausiai valdomi privačių subjekt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ai, kaip interneto resursų turėtojai, dažnai atsiduria tarp pažeidėjo ir nukentėjus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ų teisinės atsakomybės už vartotojų skleidžiamą informaciją įtvirtinimas teisės aktu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formalių elgesio taisyklių skatinimas teisės aktai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eisminių ginčų sprendimo būdų skatinimas (pvz., domenų vardų galimo piratavimo (angl. cybersquatting) ginčų sprendimas arbitražo forma ne teis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iquet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FC 1855, RFC 108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mus elementarių pageidautino elgesio internete taisyklių rinki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isyklių 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siųsti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ar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ų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(piktų) žinučių (angl. fl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i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la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vien didžiosiomis raidėmis (TAI LAIKOMA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AUKIM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ternet Corporation of 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gned Names and Numbers (ICAN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kurta 1998 m. perėmė funkcijas iš JA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pelno organizacija, atsakinga už IP adresų ir domenų vardų naudojim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Direktoriai renkami interneto subjektų (5 iš 19 tiesioginiais rinkimais renka interneto vartotoja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990000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28440" y="2361960"/>
            <a:ext cx="7986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iform Domain Name Dispute Resolution Policy (UDR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Sukurtas pagal Pasaulinės intelektinės nuosavybės organizacijos (angl. WIPO) rekomendacija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Įtraukiama į daugelio bendrinių domenų vardų (gTLDs) registravimo sutarti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Ginčus sprendžia nepriklausomų (ICANN paskirtų) organizacijų sudarytos kolegijos (administrative panel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Rezultatas: domeno vardo perdavimas kitam subjektu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Nedraudžiama spręsti ginčo teisme (tai nėra arbitraža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Dauguma ginčų baigiama be nagrinėjimo teism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il Abuse Prevention System (MA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 sąrašą įtraukiami IP adresai, iš kurių masiškai siunčiamas nepageidaujamas komercinis paš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grindiniai Interneto paslaugų teikėjai (pvz., Teleglobe, EUnet International, kt.) blokuoja informaciją, kuri siunčiama iš/į šiuos adres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guliavimo objektas ir meto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Objektas - elektroninė komercija (visuomeniniai santykiai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varbiausia ne santykių objektas (iš esmės tapatus bendrajai komercinei teisei), o vykdymo bū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Metod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yraujantis dispozityvus (ypač B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 komerc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ygios šaly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mperatyvaus metodo elementai (ypač vartotojų apsauga, asmens duomenų apsaug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Administracinis pavaldu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dovaujančios idėjos, esančios reguliavimo pagrin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j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glamentacin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ės aišk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ragų pildy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lizijų šal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formos nediskriminav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nio neutralumo (atvir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nio ekvivalentišk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os skat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teisinės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ugumo užtikr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o pripaž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aus kišimosi (proporcing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utorių teisių ir gretutinių teisi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umo, prognozuojamumo, teisinio tikrumo, teisėtų lūkesči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ės formos nediskrimin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formacijos teisinis efektyvumas, galiojimas ir įgyvendinimas negali būti paneigtas vien tik tuo pagrindu, kad ši informacija yra elektroninis duomenų praneš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NCITRAL Model Law on Electronic Comme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vz., el. parašas negali būti laikomas negaliojančiu dėl to, kad yra elektroninis (Elektroninio parašo įst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tr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nis neutral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ės aktų (ar valstybės politikos) siejimo su konkrečiomis technologijomis veng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ualumo principas - leidžia diferencijuoti skirtingas technologijas pagal jų patikimumą (elektroninis parašas, saugus (angl. advanced) elektroninis parašas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4:08:50Z</dcterms:created>
  <dc:creator>Tomas Lamanauskas</dc:creator>
  <dc:description/>
  <dc:language>en-US</dc:language>
  <cp:lastModifiedBy>Egle</cp:lastModifiedBy>
  <dcterms:modified xsi:type="dcterms:W3CDTF">2008-10-04T08:13:07Z</dcterms:modified>
  <cp:revision>27</cp:revision>
  <dc:subject/>
  <dc:title>PowerPoint Presentation</dc:title>
</cp:coreProperties>
</file>